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6.jpeg" ContentType="image/jpeg"/>
  <Override PartName="/ppt/media/image27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2FF9-CA4E-4862-978B-3C2C8F27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56E0-1DBE-4D7C-9A3E-AF8213F3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950B-D7B0-423E-AA47-4DB26CBF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AE67-0031-408F-BE75-ABE99ED6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C96E-B1DC-4924-9566-87E4B7D8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5209-B01E-44E0-9D47-334140D8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FF60-DD29-41B1-B931-EC2DED2D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61D5-177C-4685-803E-E497B6AC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06C1-E5BB-4C2A-B671-5B6CBB05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4CA0-4232-4EE0-B966-477901E0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F591-2319-4439-9261-FC646BCB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A96-3543-451F-A84A-07FBCB32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9CD7-1EE0-43C9-B963-53875E28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B857-5727-4CFF-811D-A24B3521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C287-23BC-4BB4-8AED-94C4C976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B56C-DECC-4CCC-AE5A-0CD2E5CE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942D-5467-408F-8138-91D9EA5C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A2F2-CE6D-4265-88EB-FCAC8A9C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FE26-1848-4417-8EC4-22C2DFC8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4196-FC2A-44E5-93C2-9EAAD920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96C2-35D2-4D7C-931C-2C2C1667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4E4-2023-4F88-B312-4F340806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E15-E4E5-493B-95F4-85EDEBBA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57E-9F95-4A54-9FDD-149DC6AC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0C25-2CE1-4B02-A66E-5529FAB7904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16CE-7408-422D-A1F9-4346FB8C02B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7154-EE19-4C3F-B6B0-CCEF5FD00BF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Открытый урок в 7 класс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: «Свойства степени с натуральным показател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Попова Ольг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240E-6DAD-4126-80EA-496484184CF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апомнит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826920" y="2492280"/>
            <a:ext cx="8066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умножении степеней с одинаковыми основаниями показатели складыв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делении степеней с одинаковыми основаниями показатели вычит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3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возведении степени в степ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казатели перемножаются, а основание остается неизменным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6CFF-0183-449E-ABC1-FA15F1D11DE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войства степеней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4"/>
          <p:cNvGrpSpPr/>
          <p:nvPr/>
        </p:nvGrpSpPr>
        <p:grpSpPr>
          <a:xfrm>
            <a:off x="971640" y="2422440"/>
            <a:ext cx="5113080" cy="4175280"/>
            <a:chOff x="971640" y="2422440"/>
            <a:chExt cx="5113080" cy="4175280"/>
          </a:xfrm>
        </p:grpSpPr>
        <p:sp>
          <p:nvSpPr>
            <p:cNvPr id="168" name="AutoShape 7"/>
            <p:cNvSpPr/>
            <p:nvPr/>
          </p:nvSpPr>
          <p:spPr>
            <a:xfrm>
              <a:off x="971640" y="2422440"/>
              <a:ext cx="5113080" cy="4175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12"/>
                <p:cNvSpPr txBox="1"/>
                <p:nvPr/>
              </p:nvSpPr>
              <p:spPr>
                <a:xfrm>
                  <a:off x="1160280" y="2422440"/>
                  <a:ext cx="4878000" cy="404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: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sSup>
                            <m:e/>
                            <m:sup/>
                          </m:sSup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n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>
                                        <m:t xml:space="preserve">b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limUpp>
                            <m:e/>
                            <m:lim/>
                          </m:limUpp>
                          <m:r>
                            <m:t xml:space="preserve">b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9017-D364-4945-836D-049B982AAD8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Высказывания Козьмы Прутков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2"/>
              <p:cNvSpPr txBox="1"/>
              <p:nvPr/>
            </p:nvSpPr>
            <p:spPr>
              <a:xfrm>
                <a:off x="2414520" y="2970360"/>
                <a:ext cx="8701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4"/>
              <p:cNvSpPr txBox="1"/>
              <p:nvPr/>
            </p:nvSpPr>
            <p:spPr>
              <a:xfrm>
                <a:off x="2338560" y="4602240"/>
                <a:ext cx="9126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6"/>
              <p:cNvSpPr txBox="1"/>
              <p:nvPr/>
            </p:nvSpPr>
            <p:spPr>
              <a:xfrm>
                <a:off x="2338560" y="3794040"/>
                <a:ext cx="12254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2560" y="220500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преобразования. Используя найденные ответы, запишите в таблицах два высказывания Козьмы Прутков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902520" y="2986200"/>
            <a:ext cx="11455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у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ч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8"/>
              <p:cNvSpPr txBox="1"/>
              <p:nvPr/>
            </p:nvSpPr>
            <p:spPr>
              <a:xfrm>
                <a:off x="2343240" y="3416400"/>
                <a:ext cx="8604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8"/>
              <p:cNvSpPr txBox="1"/>
              <p:nvPr/>
            </p:nvSpPr>
            <p:spPr>
              <a:xfrm>
                <a:off x="2340000" y="4959360"/>
                <a:ext cx="865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0"/>
              <p:cNvSpPr txBox="1"/>
              <p:nvPr/>
            </p:nvSpPr>
            <p:spPr>
              <a:xfrm>
                <a:off x="2338560" y="4168800"/>
                <a:ext cx="11523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Text Box 31"/>
          <p:cNvSpPr/>
          <p:nvPr/>
        </p:nvSpPr>
        <p:spPr>
          <a:xfrm>
            <a:off x="4029120" y="2986200"/>
            <a:ext cx="1748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ерявш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ран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частлив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2"/>
              <p:cNvSpPr txBox="1"/>
              <p:nvPr/>
            </p:nvSpPr>
            <p:spPr>
              <a:xfrm>
                <a:off x="2340000" y="5394240"/>
                <a:ext cx="8953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3"/>
              <p:cNvSpPr txBox="1"/>
              <p:nvPr/>
            </p:nvSpPr>
            <p:spPr>
              <a:xfrm>
                <a:off x="2340000" y="5897520"/>
                <a:ext cx="839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34"/>
              <p:cNvSpPr txBox="1"/>
              <p:nvPr/>
            </p:nvSpPr>
            <p:spPr>
              <a:xfrm>
                <a:off x="6051600" y="2924280"/>
                <a:ext cx="1616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35"/>
              <p:cNvSpPr txBox="1"/>
              <p:nvPr/>
            </p:nvSpPr>
            <p:spPr>
              <a:xfrm>
                <a:off x="6049800" y="3362400"/>
                <a:ext cx="16909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3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36"/>
              <p:cNvSpPr txBox="1"/>
              <p:nvPr/>
            </p:nvSpPr>
            <p:spPr>
              <a:xfrm>
                <a:off x="6046920" y="3851280"/>
                <a:ext cx="865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Picture 38" descr=""/>
          <p:cNvPicPr/>
          <p:nvPr/>
        </p:nvPicPr>
        <p:blipFill>
          <a:blip r:embed="rId1"/>
          <a:stretch/>
        </p:blipFill>
        <p:spPr>
          <a:xfrm>
            <a:off x="3987720" y="5105520"/>
            <a:ext cx="5048280" cy="771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9" descr=""/>
          <p:cNvPicPr/>
          <p:nvPr/>
        </p:nvPicPr>
        <p:blipFill>
          <a:blip r:embed="rId2"/>
          <a:stretch/>
        </p:blipFill>
        <p:spPr>
          <a:xfrm>
            <a:off x="3997440" y="5877000"/>
            <a:ext cx="503856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D1F8-911D-4EB3-A220-0D6FCAD1031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13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826920" y="2492280"/>
            <a:ext cx="8209080" cy="1253880"/>
            <a:chOff x="826920" y="2492280"/>
            <a:chExt cx="8209080" cy="1253880"/>
          </a:xfrm>
        </p:grpSpPr>
        <p:pic>
          <p:nvPicPr>
            <p:cNvPr id="201" name="Picture 27" descr=""/>
            <p:cNvPicPr/>
            <p:nvPr/>
          </p:nvPicPr>
          <p:blipFill>
            <a:blip r:embed="rId1"/>
            <a:stretch/>
          </p:blipFill>
          <p:spPr>
            <a:xfrm>
              <a:off x="826920" y="2492280"/>
              <a:ext cx="8209080" cy="12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33"/>
            <p:cNvSpPr/>
            <p:nvPr/>
          </p:nvSpPr>
          <p:spPr>
            <a:xfrm>
              <a:off x="971640" y="3213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что       имеем        не       храним       потерявши      плаче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38"/>
          <p:cNvSpPr/>
          <p:nvPr/>
        </p:nvSpPr>
        <p:spPr>
          <a:xfrm>
            <a:off x="883800" y="3860640"/>
            <a:ext cx="569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имеем не храним, потерявши плач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4"/>
          <p:cNvGrpSpPr/>
          <p:nvPr/>
        </p:nvGrpSpPr>
        <p:grpSpPr>
          <a:xfrm>
            <a:off x="826920" y="4656240"/>
            <a:ext cx="8209080" cy="1271520"/>
            <a:chOff x="826920" y="4656240"/>
            <a:chExt cx="8209080" cy="1271520"/>
          </a:xfrm>
        </p:grpSpPr>
        <p:pic>
          <p:nvPicPr>
            <p:cNvPr id="205" name="Picture 28" descr=""/>
            <p:cNvPicPr/>
            <p:nvPr/>
          </p:nvPicPr>
          <p:blipFill>
            <a:blip r:embed="rId2"/>
            <a:stretch/>
          </p:blipFill>
          <p:spPr>
            <a:xfrm>
              <a:off x="826920" y="4656240"/>
              <a:ext cx="8209080" cy="12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42"/>
            <p:cNvSpPr/>
            <p:nvPr/>
          </p:nvSpPr>
          <p:spPr>
            <a:xfrm>
              <a:off x="971640" y="5310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   </a:t>
              </a: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хочешь            быть          счастливым          будь         и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43"/>
          <p:cNvSpPr/>
          <p:nvPr/>
        </p:nvSpPr>
        <p:spPr>
          <a:xfrm>
            <a:off x="900000" y="60976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 быть счастливым - будь 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8125-7279-43D3-BD07-1DB36B1E6BC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Магический квадрат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2"/>
          <p:cNvGrpSpPr/>
          <p:nvPr/>
        </p:nvGrpSpPr>
        <p:grpSpPr>
          <a:xfrm>
            <a:off x="755640" y="2476440"/>
            <a:ext cx="8280360" cy="1099440"/>
            <a:chOff x="755640" y="2476440"/>
            <a:chExt cx="8280360" cy="1099440"/>
          </a:xfrm>
        </p:grpSpPr>
        <p:sp>
          <p:nvSpPr>
            <p:cNvPr id="216" name="Text Box 16"/>
            <p:cNvSpPr/>
            <p:nvPr/>
          </p:nvSpPr>
          <p:spPr>
            <a:xfrm>
              <a:off x="755640" y="2476440"/>
              <a:ext cx="828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Заполните свободные клетки квадрата так, чтобы произведение выражений каждого столбца, каждой строки и диагонали равнялос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21"/>
                <p:cNvSpPr txBox="1"/>
                <p:nvPr/>
              </p:nvSpPr>
              <p:spPr>
                <a:xfrm>
                  <a:off x="3708360" y="3114720"/>
                  <a:ext cx="45576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8" name="Picture 23" descr=""/>
          <p:cNvPicPr/>
          <p:nvPr/>
        </p:nvPicPr>
        <p:blipFill>
          <a:blip r:embed="rId1"/>
          <a:stretch/>
        </p:blipFill>
        <p:spPr>
          <a:xfrm>
            <a:off x="3706920" y="3691080"/>
            <a:ext cx="1944720" cy="18986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5"/>
          <p:cNvSpPr/>
          <p:nvPr/>
        </p:nvSpPr>
        <p:spPr>
          <a:xfrm>
            <a:off x="755640" y="58104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ой квадрат называется </a:t>
            </a:r>
            <a:r>
              <a:rPr b="1" lang="ru-RU" sz="2200" spc="-1" strike="noStrike">
                <a:solidFill>
                  <a:srgbClr val="cc0099"/>
                </a:solidFill>
                <a:latin typeface="Arial"/>
              </a:rPr>
              <a:t>магическ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485D-F29A-4331-834B-147270E8DBA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начения числовых выражений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755640" y="2698920"/>
            <a:ext cx="345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йдите в круж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ения числов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анных в овал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едините их лини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9" descr=""/>
          <p:cNvPicPr/>
          <p:nvPr/>
        </p:nvPicPr>
        <p:blipFill>
          <a:blip r:embed="rId1"/>
          <a:stretch/>
        </p:blipFill>
        <p:spPr>
          <a:xfrm>
            <a:off x="4368960" y="2347920"/>
            <a:ext cx="43066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39C5-420E-4143-8166-8579F58C9C3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2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28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Rectangle 36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Rectangle 44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5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307040" cy="41767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49"/>
          <p:cNvSpPr/>
          <p:nvPr/>
        </p:nvSpPr>
        <p:spPr>
          <a:xfrm rot="3721800">
            <a:off x="4739760" y="3806640"/>
            <a:ext cx="2441520" cy="154332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3"/>
          <p:cNvSpPr/>
          <p:nvPr/>
        </p:nvSpPr>
        <p:spPr>
          <a:xfrm flipH="1" rot="14641800">
            <a:off x="3242160" y="4307400"/>
            <a:ext cx="2016360" cy="184320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4"/>
          <p:cNvSpPr/>
          <p:nvPr/>
        </p:nvSpPr>
        <p:spPr>
          <a:xfrm flipH="1" rot="7732800">
            <a:off x="4515480" y="3511440"/>
            <a:ext cx="2376720" cy="1655640"/>
          </a:xfrm>
          <a:prstGeom prst="pi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5"/>
          <p:cNvSpPr/>
          <p:nvPr/>
        </p:nvSpPr>
        <p:spPr>
          <a:xfrm flipH="1" flipV="1" rot="6475800">
            <a:off x="4102560" y="2526840"/>
            <a:ext cx="1512720" cy="230508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31ED-EAFD-47C6-84F8-DF65EE34ED0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орный консп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7,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66(в, г), №579, №5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ежающее задание: составить тематический сборник ( по желан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2707-5F76-4E32-8F30-055433502A7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Дострой прямоугольник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штрихованный квадрат изображает записанное в нем число. Дочертите прямоугольник, который будет изображать указанное под ним числ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3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Rectangle 6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76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Rectangle 88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100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04" descr=""/>
          <p:cNvPicPr/>
          <p:nvPr/>
        </p:nvPicPr>
        <p:blipFill>
          <a:blip r:embed="rId1"/>
          <a:stretch/>
        </p:blipFill>
        <p:spPr>
          <a:xfrm>
            <a:off x="5049720" y="3541680"/>
            <a:ext cx="3267360" cy="1255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3" descr=""/>
          <p:cNvPicPr/>
          <p:nvPr/>
        </p:nvPicPr>
        <p:blipFill>
          <a:blip r:embed="rId2"/>
          <a:stretch/>
        </p:blipFill>
        <p:spPr>
          <a:xfrm>
            <a:off x="1116000" y="3645000"/>
            <a:ext cx="3317760" cy="1187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2" descr=""/>
          <p:cNvPicPr/>
          <p:nvPr/>
        </p:nvPicPr>
        <p:blipFill>
          <a:blip r:embed="rId3"/>
          <a:stretch/>
        </p:blipFill>
        <p:spPr>
          <a:xfrm>
            <a:off x="1116000" y="5013360"/>
            <a:ext cx="3297240" cy="1255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1" descr=""/>
          <p:cNvPicPr/>
          <p:nvPr/>
        </p:nvPicPr>
        <p:blipFill>
          <a:blip r:embed="rId4"/>
          <a:stretch/>
        </p:blipFill>
        <p:spPr>
          <a:xfrm>
            <a:off x="5076720" y="5013360"/>
            <a:ext cx="3238560" cy="12272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0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ctangle 11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128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2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Rectangle 140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1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Rectangle 152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7354-BF7B-4725-9FFF-0D05D5417FE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Какое число изображает круг?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знайте, какое число изображает круг, если заштрихованная часть изображает указанное число. Ответ запишите в виде степ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2" descr=""/>
          <p:cNvPicPr/>
          <p:nvPr/>
        </p:nvPicPr>
        <p:blipFill>
          <a:blip r:embed="rId1"/>
          <a:stretch/>
        </p:blipFill>
        <p:spPr>
          <a:xfrm>
            <a:off x="4859280" y="387684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1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1712880" cy="1694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0" descr=""/>
          <p:cNvPicPr/>
          <p:nvPr/>
        </p:nvPicPr>
        <p:blipFill>
          <a:blip r:embed="rId3"/>
          <a:stretch/>
        </p:blipFill>
        <p:spPr>
          <a:xfrm>
            <a:off x="755640" y="3968640"/>
            <a:ext cx="1735200" cy="1621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9" descr=""/>
          <p:cNvPicPr/>
          <p:nvPr/>
        </p:nvPicPr>
        <p:blipFill>
          <a:blip r:embed="rId4"/>
          <a:stretch/>
        </p:blipFill>
        <p:spPr>
          <a:xfrm>
            <a:off x="2843280" y="3933720"/>
            <a:ext cx="1662120" cy="16430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Rectangle 3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Rectangle 46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Rectangle 58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Rectangle 70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FB85-2027-414C-91C4-99D55543689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5640" y="1035720"/>
            <a:ext cx="781524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Тема урока: «Свойства степени </a:t>
            </a:r>
            <a:br>
              <a:rPr sz="3400"/>
            </a:b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 натуральным показателем»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0" name="Text Box 51"/>
          <p:cNvSpPr/>
          <p:nvPr/>
        </p:nvSpPr>
        <p:spPr>
          <a:xfrm>
            <a:off x="755640" y="2349360"/>
            <a:ext cx="8012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cc"/>
                </a:solidFill>
                <a:latin typeface="Arial"/>
              </a:rPr>
              <a:t>Цели уро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Образов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свойств степени с натуральным показателем; совершенствование  вычислительных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Развивающи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атематического и общег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озора, мышления и речи, внимания и памяти; формирование  умений применять приемы наблюдения, сравнения, анали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Воспит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оспитание интереса к математике и ее приложениям, активности, обще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745D-5FDC-43F5-92F3-85EB3C61648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История создания современной теории степеней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3" name="Picture 6" descr="img001"/>
          <p:cNvPicPr/>
          <p:nvPr/>
        </p:nvPicPr>
        <p:blipFill>
          <a:blip r:embed="rId1"/>
          <a:stretch/>
        </p:blipFill>
        <p:spPr>
          <a:xfrm>
            <a:off x="826920" y="3462480"/>
            <a:ext cx="1368720" cy="288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g001"/>
          <p:cNvPicPr/>
          <p:nvPr/>
        </p:nvPicPr>
        <p:blipFill>
          <a:blip r:embed="rId2"/>
          <a:stretch/>
        </p:blipFill>
        <p:spPr>
          <a:xfrm>
            <a:off x="2050920" y="3429000"/>
            <a:ext cx="1173240" cy="290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img001"/>
          <p:cNvPicPr/>
          <p:nvPr/>
        </p:nvPicPr>
        <p:blipFill>
          <a:blip r:embed="rId3"/>
          <a:stretch/>
        </p:blipFill>
        <p:spPr>
          <a:xfrm>
            <a:off x="3203640" y="3573360"/>
            <a:ext cx="2171520" cy="115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img001"/>
          <p:cNvPicPr/>
          <p:nvPr/>
        </p:nvPicPr>
        <p:blipFill>
          <a:blip r:embed="rId4"/>
          <a:stretch/>
        </p:blipFill>
        <p:spPr>
          <a:xfrm>
            <a:off x="5435640" y="3645000"/>
            <a:ext cx="3097080" cy="122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img001"/>
          <p:cNvPicPr/>
          <p:nvPr/>
        </p:nvPicPr>
        <p:blipFill>
          <a:blip r:embed="rId5"/>
          <a:stretch/>
        </p:blipFill>
        <p:spPr>
          <a:xfrm>
            <a:off x="3203640" y="5013360"/>
            <a:ext cx="2089080" cy="1368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вычисления. Заполните таблицы буквами, учитывая найденные отве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img001"/>
          <p:cNvPicPr/>
          <p:nvPr/>
        </p:nvPicPr>
        <p:blipFill>
          <a:blip r:embed="rId6"/>
          <a:stretch/>
        </p:blipFill>
        <p:spPr>
          <a:xfrm>
            <a:off x="5508720" y="5013360"/>
            <a:ext cx="2950920" cy="13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7FC4-820D-4089-B2E1-A992BDF607D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7640" y="837000"/>
            <a:ext cx="778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имон Стевин и Рене Декарт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2" name="Picture 3" descr="декарт 2"/>
          <p:cNvPicPr/>
          <p:nvPr/>
        </p:nvPicPr>
        <p:blipFill>
          <a:blip r:embed="rId1"/>
          <a:stretch/>
        </p:blipFill>
        <p:spPr>
          <a:xfrm>
            <a:off x="5003640" y="2781360"/>
            <a:ext cx="2521080" cy="316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стевин"/>
          <p:cNvPicPr/>
          <p:nvPr/>
        </p:nvPicPr>
        <p:blipFill>
          <a:blip r:embed="rId2"/>
          <a:stretch/>
        </p:blipFill>
        <p:spPr>
          <a:xfrm>
            <a:off x="1547640" y="2781360"/>
            <a:ext cx="23209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AAA2-2360-4288-BAC8-B8E98B82E56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равнение выражений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6" name="Picture 7" descr="img002"/>
          <p:cNvPicPr/>
          <p:nvPr/>
        </p:nvPicPr>
        <p:blipFill>
          <a:blip r:embed="rId1"/>
          <a:stretch/>
        </p:blipFill>
        <p:spPr>
          <a:xfrm>
            <a:off x="5003640" y="3357720"/>
            <a:ext cx="3019680" cy="2303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е, не выполняя вычис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верные неравенства. Из соответствующих им букв составьте фамилию архитектора, по проекту которого в 1825 году было построено здание Большого театра в Моск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Arial"/>
              </a:rPr>
              <a:t>Бов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оектам этого известного архитектора также были построены здания Манежа и Триумфальные ворота, создан проект Александров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img002"/>
          <p:cNvPicPr/>
          <p:nvPr/>
        </p:nvPicPr>
        <p:blipFill>
          <a:blip r:embed="rId2"/>
          <a:stretch/>
        </p:blipFill>
        <p:spPr>
          <a:xfrm>
            <a:off x="826920" y="3500280"/>
            <a:ext cx="1800360" cy="144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3"/>
          <a:stretch/>
        </p:blipFill>
        <p:spPr>
          <a:xfrm>
            <a:off x="2411280" y="3525840"/>
            <a:ext cx="205740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БТ 2"/>
          <p:cNvPicPr/>
          <p:nvPr/>
        </p:nvPicPr>
        <p:blipFill>
          <a:blip r:embed="rId4"/>
          <a:stretch/>
        </p:blipFill>
        <p:spPr>
          <a:xfrm>
            <a:off x="4714920" y="3357720"/>
            <a:ext cx="3240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F24A-A4C9-4A04-A7AF-7067FBCEB24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3680" y="853200"/>
            <a:ext cx="7751520" cy="119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Большая часть математических утверждений проходит в своем становлении три этапа. </a:t>
            </a:r>
            <a:endParaRPr b="1" lang="en-US" sz="3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755640" y="2421000"/>
            <a:ext cx="79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перв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еловек в ряде конкретных случаев подмечает одну и ту же закономер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втор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сформулировать подмеченную закономерность в общем виде, т.е. предполагает, что эта закономерность действует не только в рассмотренных случаях, но и во всех других аналогичных случа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третье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доказать, что закономерность, сформулированная в общем виде, на самом деле вер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9FB0-A473-4758-A7BC-E79FB1D739E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перв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3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6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7589880" cy="344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BE51-6437-4F2A-BFF3-DDA4B71C6FB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втор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15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"/>
          <p:cNvPicPr/>
          <p:nvPr/>
        </p:nvPicPr>
        <p:blipFill>
          <a:blip r:embed="rId1"/>
          <a:stretch/>
        </p:blipFill>
        <p:spPr>
          <a:xfrm>
            <a:off x="784080" y="2727360"/>
            <a:ext cx="819792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6B5B-171F-46CB-9658-706E73ED121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треть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1258920" y="2924280"/>
            <a:ext cx="6985080" cy="2071440"/>
            <a:chOff x="1258920" y="2924280"/>
            <a:chExt cx="6985080" cy="2071440"/>
          </a:xfrm>
        </p:grpSpPr>
        <p:grpSp>
          <p:nvGrpSpPr>
            <p:cNvPr id="148" name="Group 18"/>
            <p:cNvGrpSpPr/>
            <p:nvPr/>
          </p:nvGrpSpPr>
          <p:grpSpPr>
            <a:xfrm>
              <a:off x="1258920" y="2924280"/>
              <a:ext cx="6985080" cy="2071440"/>
              <a:chOff x="1258920" y="2924280"/>
              <a:chExt cx="6985080" cy="2071440"/>
            </a:xfrm>
          </p:grpSpPr>
          <p:pic>
            <p:nvPicPr>
              <p:cNvPr id="149" name="Picture 14" descr=""/>
              <p:cNvPicPr/>
              <p:nvPr/>
            </p:nvPicPr>
            <p:blipFill>
              <a:blip r:embed="rId1"/>
              <a:srcRect l="0" t="0" r="0" b="18553"/>
              <a:stretch/>
            </p:blipFill>
            <p:spPr>
              <a:xfrm>
                <a:off x="1258920" y="2924280"/>
                <a:ext cx="6939000" cy="203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5"/>
              <p:cNvSpPr/>
              <p:nvPr/>
            </p:nvSpPr>
            <p:spPr>
              <a:xfrm>
                <a:off x="6804360" y="376560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6"/>
              <p:cNvSpPr/>
              <p:nvPr/>
            </p:nvSpPr>
            <p:spPr>
              <a:xfrm>
                <a:off x="6948720" y="462924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7"/>
              <p:cNvSpPr/>
              <p:nvPr/>
            </p:nvSpPr>
            <p:spPr>
              <a:xfrm>
                <a:off x="1690920" y="419112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Text Box 19"/>
            <p:cNvSpPr/>
            <p:nvPr/>
          </p:nvSpPr>
          <p:spPr>
            <a:xfrm>
              <a:off x="1258920" y="4221000"/>
              <a:ext cx="12952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0" descr=""/>
            <p:cNvPicPr/>
            <p:nvPr/>
          </p:nvPicPr>
          <p:blipFill>
            <a:blip r:embed="rId2"/>
            <a:srcRect l="0" t="0" r="16863" b="0"/>
            <a:stretch/>
          </p:blipFill>
          <p:spPr>
            <a:xfrm>
              <a:off x="1908000" y="4600440"/>
              <a:ext cx="385920" cy="379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3:37:33Z</dcterms:created>
  <dc:creator>Попова Екатерина</dc:creator>
  <dc:description/>
  <dc:language>en-US</dc:language>
  <cp:lastModifiedBy>ITcenterPC2</cp:lastModifiedBy>
  <dcterms:modified xsi:type="dcterms:W3CDTF">2009-09-29T11:17:07Z</dcterms:modified>
  <cp:revision>67</cp:revision>
  <dc:subject/>
  <dc:title>Слайд 1</dc:title>
</cp:coreProperties>
</file>